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F6A-4ACC-41DC-B4A0-FD1CC2FB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C5D-564C-4537-B895-6D4B14B5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45A-8145-4639-94C2-ABBE465A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8E3-692C-490C-9B6F-D0D0E16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1900-44B3-4721-863E-01788EB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B05-9B74-4FB7-9582-40C82C0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FA1B-AD34-43BB-B195-75C02FCB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9931-1757-41A3-B0C1-B3601639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CD3-3084-464E-8985-A54E385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15AB-2306-4009-B996-3E593D33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304-D43C-487D-B03F-B9CA916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0A4-44CD-4E6B-B161-49D72890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E51-84D6-45CC-9160-BDF64FD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66C6-052A-4D48-8CDE-E9F1CE5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4FB6-FF0E-47B1-B59A-0D5AF6A7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DF42-4C70-4BDA-B8EF-B0589CD9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F1E7-71E0-4C52-8203-3AB0D3F6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250-2E96-4D2C-9780-CDC71E0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2B6-49FA-4D75-80FC-8470DE4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746-93A0-4632-A948-FFE27FF3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984-66B7-4361-B213-4120B01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900-30E9-43F6-AD15-9C0AFAA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ACC-0BFF-4615-AB74-9B4425BC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336-8932-4DA9-A152-962F376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BDC-5BC9-4866-BAED-18336AE65F5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AD3E-C555-4FF0-BC47-D0E4C881D6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w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enj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ssessing Student Talk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etting Kids to Engage in Convers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648320"/>
            <a:ext cx="6934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tin J. Smi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dison Twp Public Schools, NJ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tin.smith@edison.k12.nj.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a “novice-mid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sts and memorized langu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communi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tion or common sett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swer simple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iculty forming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icult to underst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mited 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eds repetition/restat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the “intermediate-low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ings of sentenc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k and answer simple ques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vival skill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fortable with familiar topic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s more risks = Frequent err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ss accurate as task/message becomes more comple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What does the “pre-advanced” speaker look li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rrate and describe in major time frames most of the 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pics of general or personal inte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derstood without difficul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speak in well formed paragrap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phr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ircumlocu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How can we TEACH interpersonal speaking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del interpersonal mode for cl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courage turn-tak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lerate silen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how interest in students’ respons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courage elabo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sk for clarif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cas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void correcting students in front of pe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arm atmosphere = more student risk tak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gestures to encourage communic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priate topics for ag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7760" y="239760"/>
            <a:ext cx="856440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9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5060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essing the Interpersonal Mo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P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I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LO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AM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ELL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APP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 – Spanish (soon to be French &amp; German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view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– Stu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- Stud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udacity (free downloadable progr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gital Voice Recorders (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cdw.com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ubric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39720"/>
            <a:ext cx="822960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flenj.org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on Consortium for Assessing Performance Standard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pturing the Elusive Butterfl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aren Jogan – Albright College in 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83832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ree Essential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o we want students to know and be able to d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el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evidence that students can perform at the expected level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onvers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vs.   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Dialog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ontan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wo-w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otiation of mea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676520"/>
            <a:ext cx="320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600200"/>
            <a:ext cx="3809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rip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ach student responsible for their own l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need to develop communicative strateg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personal Communic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914400"/>
          <a:ext cx="8229600" cy="5232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-way communic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wo-way exchan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zed dialogu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ontaneous (an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predictable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iewer asking all the question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lping each other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n taking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llowing-up and reacting;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taining the convers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ly concerned abou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ing on the messag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lking to the camera or audienc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ve body language; ey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c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of bilingual dictionary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circumlocution; gesture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utting down when not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stoo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king for clarificatio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2366280" y="6491160"/>
            <a:ext cx="50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©Copyright 2010 by the American Council on the Teaching of Foreign Languages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ject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5959440" cy="613872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14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3048120" cy="7162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76212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alibri"/>
              </a:rPr>
              <a:t>Para comunicar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14" descr=""/>
          <p:cNvPicPr/>
          <p:nvPr/>
        </p:nvPicPr>
        <p:blipFill>
          <a:blip r:embed="rId1"/>
          <a:stretch/>
        </p:blipFill>
        <p:spPr>
          <a:xfrm>
            <a:off x="6324480" y="0"/>
            <a:ext cx="2664000" cy="883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152280"/>
            <a:ext cx="5943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a conversación: Completa la conversació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ontar   jugar    gustar    ir    alquilar   hac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¿Quieres _____ al centro commercial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No, no quiero. ¿Quieres _____ videos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No, no quiero. Quiero ____ ejercici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¿Quieres _____ al básquetbol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Gerardo  No, no me gusta el básquetbol. ¿Quieres _____ en bicicleta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ría  Está bien.  Buena idea.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Each person will pick a name out of the basket.    Announce the name to the class. Now that person is “taken.”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hen everyone has a partner and you hear the signal, walk over and start a conversation about what each other does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You will get another signal in 3 minutes. Stop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Sit down.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Share with the class something new you just learned about your conversation partner. 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1" descr="F:\Documents and Settings\Janet\Local Settings\Temporary Internet Files\Content.IE5\16681W75\MCj04041370000[1].wmf"/>
          <p:cNvPicPr/>
          <p:nvPr/>
        </p:nvPicPr>
        <p:blipFill>
          <a:blip r:embed="rId2"/>
          <a:stretch/>
        </p:blipFill>
        <p:spPr>
          <a:xfrm>
            <a:off x="8001000" y="380880"/>
            <a:ext cx="857160" cy="88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Documents and Settings\Janet\Local Settings\Temporary Internet Files\Content.IE5\ATOL4XAV\MCj03252500000[1].wmf"/>
          <p:cNvPicPr/>
          <p:nvPr/>
        </p:nvPicPr>
        <p:blipFill>
          <a:blip r:embed="rId3"/>
          <a:stretch/>
        </p:blipFill>
        <p:spPr>
          <a:xfrm>
            <a:off x="8001000" y="3429000"/>
            <a:ext cx="7650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588960" y="301680"/>
            <a:ext cx="7994520" cy="101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which activity do students see the long term goa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learners invested in the result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 students have a say in planning the scaffolding they need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le in pairs, do learners have opportunities to take on a variety of roles such as teacher or resource 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ch activity has more of a social component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 the exercise mechanical or meaningfu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es the exchange build towards proficiency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ich could accommodate a native speaker? A student with learning disabilities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9:33:11Z</dcterms:created>
  <dc:creator>User</dc:creator>
  <dc:description/>
  <dc:language>en-US</dc:language>
  <cp:lastModifiedBy>User</cp:lastModifiedBy>
  <dcterms:modified xsi:type="dcterms:W3CDTF">2010-12-10T19:13:42Z</dcterms:modified>
  <cp:revision>19</cp:revision>
  <dc:subject/>
  <dc:title>Getting Students Talking</dc:title>
</cp:coreProperties>
</file>